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096-D55A-4B88-B289-DF34FDC3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675-4244-49F3-A92B-0B02E486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90C-1A5D-4953-B5F7-E49445F1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E5F-2D3B-427B-89C4-B7F81C54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286-E0E2-434F-94D4-8342AAE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BB9-8F32-47AA-933B-07120858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187-E045-49CC-A895-BC59440D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40E-6034-4C74-BE33-D85BE55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FF5-1A11-49C6-8CA4-BFADCC7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E20-0753-40A1-A1D1-286A51F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23A-03F9-4CB9-BA2B-A1426B9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D2B-0531-42D2-A33D-C465104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E74-B340-46EA-8A6F-36CF745D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245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2-27 &amp; 2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ll make-up work must be turned in by this FRIDA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2-27 &amp; 28-12 (Use a world m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ce is located on the continent of _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large body of water is located south of Gree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int: This body of water is north of Egy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ANA_091C"/>
          <p:cNvPicPr/>
          <p:nvPr/>
        </p:nvPicPr>
        <p:blipFill>
          <a:blip r:embed="rId1"/>
          <a:stretch/>
        </p:blipFill>
        <p:spPr>
          <a:xfrm>
            <a:off x="8001000" y="457200"/>
            <a:ext cx="866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GREECE06"/>
          <p:cNvPicPr/>
          <p:nvPr/>
        </p:nvPicPr>
        <p:blipFill>
          <a:blip r:embed="rId2"/>
          <a:srcRect l="0" t="0" r="0" b="5779"/>
          <a:stretch/>
        </p:blipFill>
        <p:spPr>
          <a:xfrm>
            <a:off x="1523880" y="2514600"/>
            <a:ext cx="5991480" cy="4038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 border based on a Greek design (created in CorelDRAW7)"/>
          <p:cNvPicPr/>
          <p:nvPr/>
        </p:nvPicPr>
        <p:blipFill>
          <a:blip r:embed="rId3"/>
          <a:stretch/>
        </p:blipFill>
        <p:spPr>
          <a:xfrm>
            <a:off x="0" y="6553080"/>
            <a:ext cx="56674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A border based on a Greek design (created in CorelDRAW7)"/>
          <p:cNvPicPr/>
          <p:nvPr/>
        </p:nvPicPr>
        <p:blipFill>
          <a:blip r:embed="rId4"/>
          <a:srcRect l="0" t="0" r="27396" b="0"/>
          <a:stretch/>
        </p:blipFill>
        <p:spPr>
          <a:xfrm>
            <a:off x="5638680" y="6553080"/>
            <a:ext cx="411480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4648320" y="1066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624852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diterranean 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590920" y="0"/>
            <a:ext cx="6248160" cy="459720"/>
          </a:xfrm>
          <a:prstGeom prst="rect">
            <a:avLst/>
          </a:prstGeom>
          <a:solidFill>
            <a:srgbClr val="b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Start a NEW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x weeks Word Document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82880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t. Olympus </a:t>
            </a: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191120" y="18288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876920" y="24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egean 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629400" y="175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2960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h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8762760" y="54100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714640" y="61722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956040" y="3516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81120" y="4110120"/>
            <a:ext cx="83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pa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48120" y="60948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EDO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5486400"/>
            <a:ext cx="1828800" cy="457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743200" y="36576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rinth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666880" y="6521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7182000" y="13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84872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7848720" y="2438280"/>
            <a:ext cx="1143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 day Tur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6765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lymp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4267080" y="5867280"/>
            <a:ext cx="457200" cy="38124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4254480" y="6058080"/>
            <a:ext cx="450720" cy="114120"/>
          </a:xfrm>
          <a:custGeom>
            <a:avLst/>
            <a:gdLst>
              <a:gd name="textAreaLeft" fmla="*/ 0 w 450720"/>
              <a:gd name="textAreaRight" fmla="*/ 450720 w 450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84" h="72">
                <a:moveTo>
                  <a:pt x="284" y="72"/>
                </a:moveTo>
                <a:cubicBezTo>
                  <a:pt x="240" y="61"/>
                  <a:pt x="195" y="49"/>
                  <a:pt x="152" y="36"/>
                </a:cubicBezTo>
                <a:cubicBezTo>
                  <a:pt x="128" y="29"/>
                  <a:pt x="80" y="12"/>
                  <a:pt x="80" y="12"/>
                </a:cubicBezTo>
                <a:cubicBezTo>
                  <a:pt x="0" y="25"/>
                  <a:pt x="8" y="0"/>
                  <a:pt x="8" y="4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3"/>
          <p:cNvSpPr/>
          <p:nvPr/>
        </p:nvSpPr>
        <p:spPr>
          <a:xfrm rot="946800">
            <a:off x="4257360" y="6094440"/>
            <a:ext cx="45720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4267080" y="6033960"/>
            <a:ext cx="476280" cy="176400"/>
          </a:xfrm>
          <a:custGeom>
            <a:avLst/>
            <a:gdLst>
              <a:gd name="textAreaLeft" fmla="*/ 0 w 476280"/>
              <a:gd name="textAreaRight" fmla="*/ 476640 w 476280"/>
              <a:gd name="textAreaTop" fmla="*/ 0 h 176400"/>
              <a:gd name="textAreaBottom" fmla="*/ 176400 h 176400"/>
            </a:gdLst>
            <a:ahLst/>
            <a:rect l="textAreaLeft" t="textAreaTop" r="textAreaRight" b="textAreaBottom"/>
            <a:pathLst>
              <a:path w="300" h="111">
                <a:moveTo>
                  <a:pt x="300" y="111"/>
                </a:moveTo>
                <a:cubicBezTo>
                  <a:pt x="261" y="52"/>
                  <a:pt x="229" y="61"/>
                  <a:pt x="156" y="51"/>
                </a:cubicBezTo>
                <a:cubicBezTo>
                  <a:pt x="107" y="35"/>
                  <a:pt x="0" y="0"/>
                  <a:pt x="0" y="7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57200" y="0"/>
            <a:ext cx="29718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t Greece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7718400" y="-117360"/>
            <a:ext cx="1425600" cy="1336680"/>
          </a:xfrm>
          <a:custGeom>
            <a:avLst/>
            <a:gdLst>
              <a:gd name="textAreaLeft" fmla="*/ 0 w 1425600"/>
              <a:gd name="textAreaRight" fmla="*/ 1425960 w 14256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898" h="842">
                <a:moveTo>
                  <a:pt x="58" y="830"/>
                </a:moveTo>
                <a:cubicBezTo>
                  <a:pt x="76" y="777"/>
                  <a:pt x="68" y="765"/>
                  <a:pt x="22" y="734"/>
                </a:cubicBezTo>
                <a:cubicBezTo>
                  <a:pt x="0" y="667"/>
                  <a:pt x="19" y="676"/>
                  <a:pt x="70" y="650"/>
                </a:cubicBezTo>
                <a:cubicBezTo>
                  <a:pt x="149" y="611"/>
                  <a:pt x="62" y="643"/>
                  <a:pt x="142" y="590"/>
                </a:cubicBezTo>
                <a:cubicBezTo>
                  <a:pt x="152" y="583"/>
                  <a:pt x="220" y="568"/>
                  <a:pt x="226" y="566"/>
                </a:cubicBezTo>
                <a:cubicBezTo>
                  <a:pt x="238" y="554"/>
                  <a:pt x="249" y="541"/>
                  <a:pt x="262" y="530"/>
                </a:cubicBezTo>
                <a:cubicBezTo>
                  <a:pt x="273" y="521"/>
                  <a:pt x="290" y="518"/>
                  <a:pt x="298" y="506"/>
                </a:cubicBezTo>
                <a:cubicBezTo>
                  <a:pt x="345" y="430"/>
                  <a:pt x="304" y="390"/>
                  <a:pt x="382" y="338"/>
                </a:cubicBezTo>
                <a:cubicBezTo>
                  <a:pt x="426" y="272"/>
                  <a:pt x="430" y="254"/>
                  <a:pt x="502" y="230"/>
                </a:cubicBezTo>
                <a:cubicBezTo>
                  <a:pt x="543" y="169"/>
                  <a:pt x="585" y="103"/>
                  <a:pt x="646" y="62"/>
                </a:cubicBezTo>
                <a:cubicBezTo>
                  <a:pt x="662" y="63"/>
                  <a:pt x="898" y="0"/>
                  <a:pt x="898" y="110"/>
                </a:cubicBezTo>
                <a:cubicBezTo>
                  <a:pt x="898" y="137"/>
                  <a:pt x="897" y="285"/>
                  <a:pt x="850" y="314"/>
                </a:cubicBezTo>
                <a:cubicBezTo>
                  <a:pt x="850" y="314"/>
                  <a:pt x="760" y="344"/>
                  <a:pt x="742" y="350"/>
                </a:cubicBezTo>
                <a:cubicBezTo>
                  <a:pt x="730" y="354"/>
                  <a:pt x="706" y="362"/>
                  <a:pt x="706" y="362"/>
                </a:cubicBezTo>
                <a:cubicBezTo>
                  <a:pt x="666" y="422"/>
                  <a:pt x="694" y="390"/>
                  <a:pt x="610" y="446"/>
                </a:cubicBezTo>
                <a:cubicBezTo>
                  <a:pt x="553" y="484"/>
                  <a:pt x="597" y="480"/>
                  <a:pt x="538" y="506"/>
                </a:cubicBezTo>
                <a:cubicBezTo>
                  <a:pt x="515" y="516"/>
                  <a:pt x="490" y="522"/>
                  <a:pt x="466" y="530"/>
                </a:cubicBezTo>
                <a:cubicBezTo>
                  <a:pt x="454" y="534"/>
                  <a:pt x="430" y="542"/>
                  <a:pt x="430" y="542"/>
                </a:cubicBezTo>
                <a:cubicBezTo>
                  <a:pt x="411" y="809"/>
                  <a:pt x="477" y="662"/>
                  <a:pt x="298" y="722"/>
                </a:cubicBezTo>
                <a:cubicBezTo>
                  <a:pt x="284" y="727"/>
                  <a:pt x="285" y="749"/>
                  <a:pt x="274" y="758"/>
                </a:cubicBezTo>
                <a:cubicBezTo>
                  <a:pt x="217" y="808"/>
                  <a:pt x="198" y="807"/>
                  <a:pt x="130" y="830"/>
                </a:cubicBezTo>
                <a:cubicBezTo>
                  <a:pt x="118" y="834"/>
                  <a:pt x="94" y="842"/>
                  <a:pt x="94" y="842"/>
                </a:cubicBezTo>
                <a:cubicBezTo>
                  <a:pt x="55" y="816"/>
                  <a:pt x="58" y="804"/>
                  <a:pt x="58" y="830"/>
                </a:cubicBez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2700360" y="301464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elp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europe outline map"/>
          <p:cNvPicPr/>
          <p:nvPr/>
        </p:nvPicPr>
        <p:blipFill>
          <a:blip r:embed="rId1"/>
          <a:srcRect l="0" t="0" r="9857" b="0"/>
          <a:stretch/>
        </p:blipFill>
        <p:spPr>
          <a:xfrm>
            <a:off x="1828800" y="0"/>
            <a:ext cx="487692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outline map of africa"/>
          <p:cNvPicPr/>
          <p:nvPr/>
        </p:nvPicPr>
        <p:blipFill>
          <a:blip r:embed="rId2"/>
          <a:srcRect l="0" t="0" r="0" b="56888"/>
          <a:stretch/>
        </p:blipFill>
        <p:spPr>
          <a:xfrm>
            <a:off x="1281240" y="4367160"/>
            <a:ext cx="7548480" cy="2490840"/>
          </a:xfrm>
          <a:prstGeom prst="rect">
            <a:avLst/>
          </a:prstGeom>
          <a:ln w="0">
            <a:noFill/>
          </a:ln>
        </p:spPr>
      </p:pic>
      <p:sp>
        <p:nvSpPr>
          <p:cNvPr id="75" name="Freeform 4"/>
          <p:cNvSpPr/>
          <p:nvPr/>
        </p:nvSpPr>
        <p:spPr>
          <a:xfrm>
            <a:off x="5979960" y="4411800"/>
            <a:ext cx="217800" cy="507960"/>
          </a:xfrm>
          <a:custGeom>
            <a:avLst/>
            <a:gdLst>
              <a:gd name="textAreaLeft" fmla="*/ 0 w 217800"/>
              <a:gd name="textAreaRight" fmla="*/ 218160 w 2178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7" h="320">
                <a:moveTo>
                  <a:pt x="137" y="320"/>
                </a:moveTo>
                <a:cubicBezTo>
                  <a:pt x="129" y="263"/>
                  <a:pt x="130" y="248"/>
                  <a:pt x="91" y="211"/>
                </a:cubicBezTo>
                <a:cubicBezTo>
                  <a:pt x="69" y="142"/>
                  <a:pt x="101" y="223"/>
                  <a:pt x="55" y="165"/>
                </a:cubicBezTo>
                <a:cubicBezTo>
                  <a:pt x="41" y="148"/>
                  <a:pt x="42" y="122"/>
                  <a:pt x="36" y="101"/>
                </a:cubicBezTo>
                <a:cubicBezTo>
                  <a:pt x="26" y="67"/>
                  <a:pt x="15" y="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6270480" y="5094360"/>
            <a:ext cx="2511720" cy="1266840"/>
          </a:xfrm>
          <a:custGeom>
            <a:avLst/>
            <a:gdLst>
              <a:gd name="textAreaLeft" fmla="*/ 0 w 2511720"/>
              <a:gd name="textAreaRight" fmla="*/ 2512080 w 251172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1582" h="798">
                <a:moveTo>
                  <a:pt x="0" y="0"/>
                </a:moveTo>
                <a:cubicBezTo>
                  <a:pt x="21" y="64"/>
                  <a:pt x="12" y="37"/>
                  <a:pt x="27" y="82"/>
                </a:cubicBezTo>
                <a:cubicBezTo>
                  <a:pt x="38" y="114"/>
                  <a:pt x="67" y="126"/>
                  <a:pt x="91" y="146"/>
                </a:cubicBezTo>
                <a:cubicBezTo>
                  <a:pt x="126" y="175"/>
                  <a:pt x="150" y="215"/>
                  <a:pt x="183" y="247"/>
                </a:cubicBezTo>
                <a:cubicBezTo>
                  <a:pt x="209" y="353"/>
                  <a:pt x="247" y="405"/>
                  <a:pt x="338" y="466"/>
                </a:cubicBezTo>
                <a:cubicBezTo>
                  <a:pt x="354" y="516"/>
                  <a:pt x="336" y="474"/>
                  <a:pt x="375" y="521"/>
                </a:cubicBezTo>
                <a:cubicBezTo>
                  <a:pt x="382" y="530"/>
                  <a:pt x="388" y="539"/>
                  <a:pt x="393" y="549"/>
                </a:cubicBezTo>
                <a:cubicBezTo>
                  <a:pt x="397" y="558"/>
                  <a:pt x="396" y="569"/>
                  <a:pt x="402" y="576"/>
                </a:cubicBezTo>
                <a:cubicBezTo>
                  <a:pt x="409" y="584"/>
                  <a:pt x="421" y="587"/>
                  <a:pt x="429" y="594"/>
                </a:cubicBezTo>
                <a:cubicBezTo>
                  <a:pt x="471" y="628"/>
                  <a:pt x="460" y="646"/>
                  <a:pt x="521" y="668"/>
                </a:cubicBezTo>
                <a:cubicBezTo>
                  <a:pt x="533" y="686"/>
                  <a:pt x="552" y="701"/>
                  <a:pt x="557" y="722"/>
                </a:cubicBezTo>
                <a:cubicBezTo>
                  <a:pt x="560" y="737"/>
                  <a:pt x="558" y="755"/>
                  <a:pt x="567" y="768"/>
                </a:cubicBezTo>
                <a:cubicBezTo>
                  <a:pt x="579" y="786"/>
                  <a:pt x="609" y="781"/>
                  <a:pt x="631" y="786"/>
                </a:cubicBezTo>
                <a:cubicBezTo>
                  <a:pt x="1035" y="771"/>
                  <a:pt x="770" y="798"/>
                  <a:pt x="914" y="750"/>
                </a:cubicBezTo>
                <a:cubicBezTo>
                  <a:pt x="920" y="741"/>
                  <a:pt x="924" y="729"/>
                  <a:pt x="932" y="722"/>
                </a:cubicBezTo>
                <a:cubicBezTo>
                  <a:pt x="948" y="708"/>
                  <a:pt x="987" y="686"/>
                  <a:pt x="987" y="686"/>
                </a:cubicBezTo>
                <a:cubicBezTo>
                  <a:pt x="1015" y="642"/>
                  <a:pt x="1041" y="646"/>
                  <a:pt x="1088" y="631"/>
                </a:cubicBezTo>
                <a:cubicBezTo>
                  <a:pt x="1106" y="625"/>
                  <a:pt x="1143" y="613"/>
                  <a:pt x="1143" y="613"/>
                </a:cubicBezTo>
                <a:cubicBezTo>
                  <a:pt x="1156" y="599"/>
                  <a:pt x="1176" y="591"/>
                  <a:pt x="1188" y="576"/>
                </a:cubicBezTo>
                <a:cubicBezTo>
                  <a:pt x="1194" y="569"/>
                  <a:pt x="1193" y="557"/>
                  <a:pt x="1197" y="549"/>
                </a:cubicBezTo>
                <a:cubicBezTo>
                  <a:pt x="1202" y="539"/>
                  <a:pt x="1210" y="530"/>
                  <a:pt x="1216" y="521"/>
                </a:cubicBezTo>
                <a:cubicBezTo>
                  <a:pt x="1231" y="475"/>
                  <a:pt x="1214" y="510"/>
                  <a:pt x="1252" y="476"/>
                </a:cubicBezTo>
                <a:cubicBezTo>
                  <a:pt x="1293" y="440"/>
                  <a:pt x="1302" y="420"/>
                  <a:pt x="1353" y="402"/>
                </a:cubicBezTo>
                <a:cubicBezTo>
                  <a:pt x="1362" y="393"/>
                  <a:pt x="1370" y="383"/>
                  <a:pt x="1380" y="375"/>
                </a:cubicBezTo>
                <a:cubicBezTo>
                  <a:pt x="1389" y="368"/>
                  <a:pt x="1400" y="364"/>
                  <a:pt x="1408" y="357"/>
                </a:cubicBezTo>
                <a:cubicBezTo>
                  <a:pt x="1436" y="332"/>
                  <a:pt x="1461" y="298"/>
                  <a:pt x="1490" y="274"/>
                </a:cubicBezTo>
                <a:cubicBezTo>
                  <a:pt x="1514" y="255"/>
                  <a:pt x="1518" y="261"/>
                  <a:pt x="1536" y="238"/>
                </a:cubicBezTo>
                <a:cubicBezTo>
                  <a:pt x="1582" y="180"/>
                  <a:pt x="1536" y="228"/>
                  <a:pt x="1563" y="2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4484520" y="3889440"/>
            <a:ext cx="922680" cy="779400"/>
          </a:xfrm>
          <a:custGeom>
            <a:avLst/>
            <a:gdLst>
              <a:gd name="textAreaLeft" fmla="*/ 0 w 922680"/>
              <a:gd name="textAreaRight" fmla="*/ 923040 w 92268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581" h="491">
                <a:moveTo>
                  <a:pt x="329" y="28"/>
                </a:moveTo>
                <a:cubicBezTo>
                  <a:pt x="246" y="0"/>
                  <a:pt x="155" y="11"/>
                  <a:pt x="73" y="37"/>
                </a:cubicBezTo>
                <a:cubicBezTo>
                  <a:pt x="56" y="49"/>
                  <a:pt x="29" y="64"/>
                  <a:pt x="18" y="83"/>
                </a:cubicBezTo>
                <a:cubicBezTo>
                  <a:pt x="9" y="100"/>
                  <a:pt x="0" y="137"/>
                  <a:pt x="0" y="137"/>
                </a:cubicBezTo>
                <a:cubicBezTo>
                  <a:pt x="3" y="210"/>
                  <a:pt x="0" y="284"/>
                  <a:pt x="9" y="357"/>
                </a:cubicBezTo>
                <a:cubicBezTo>
                  <a:pt x="11" y="378"/>
                  <a:pt x="66" y="398"/>
                  <a:pt x="82" y="403"/>
                </a:cubicBezTo>
                <a:cubicBezTo>
                  <a:pt x="153" y="427"/>
                  <a:pt x="230" y="425"/>
                  <a:pt x="302" y="448"/>
                </a:cubicBezTo>
                <a:cubicBezTo>
                  <a:pt x="544" y="437"/>
                  <a:pt x="478" y="491"/>
                  <a:pt x="521" y="348"/>
                </a:cubicBezTo>
                <a:cubicBezTo>
                  <a:pt x="524" y="337"/>
                  <a:pt x="534" y="329"/>
                  <a:pt x="540" y="320"/>
                </a:cubicBezTo>
                <a:cubicBezTo>
                  <a:pt x="581" y="196"/>
                  <a:pt x="580" y="125"/>
                  <a:pt x="494" y="55"/>
                </a:cubicBezTo>
                <a:cubicBezTo>
                  <a:pt x="484" y="47"/>
                  <a:pt x="479" y="30"/>
                  <a:pt x="466" y="28"/>
                </a:cubicBezTo>
                <a:cubicBezTo>
                  <a:pt x="421" y="21"/>
                  <a:pt x="375" y="28"/>
                  <a:pt x="329" y="28"/>
                </a:cubicBezTo>
                <a:close/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6019560" y="3200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3244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ack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666880" y="502920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diterranean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3200400" y="4648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84760" y="40356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502884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6:31:43Z</dcterms:created>
  <dc:creator>Barbershill</dc:creator>
  <dc:description/>
  <dc:language>en-US</dc:language>
  <cp:lastModifiedBy>poweruser</cp:lastModifiedBy>
  <dcterms:modified xsi:type="dcterms:W3CDTF">2012-02-27T15:19:18Z</dcterms:modified>
  <cp:revision>130</cp:revision>
  <dc:subject/>
  <dc:title>PowerPoint Presentation</dc:title>
</cp:coreProperties>
</file>